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A18F9-CE41-46B5-8CE3-F8B83AF99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31BEF-6575-4F3B-B23C-6C8C8901F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B2829-3F42-46CD-B40F-477C3D22A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7F142-6773-42C5-9C6E-15DAE5C80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70601C-B149-40D0-9F6A-E088F5DEFC8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3FEB27-2529-49B7-A08C-4EDA761AF5C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DC0D21-93C7-401E-82F6-AA9FED9C85F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6EC348-79CE-4CE3-B709-BA668AA055C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8288AC-44E1-4CB0-A9FC-3E88DD104AE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9B45BC-5A7E-44FE-A03F-FFB339F299A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A66FCD-006D-45C5-ACFF-0653199D607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73C07-EA03-4320-9C3E-2C383AEA3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EC91DB-76BF-40F7-9FC9-BEB05BC2D0B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682429-080A-4637-B37A-4243DE2A8F3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E8FCA4-5E5B-43E7-B1E9-6AC978B95AC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6F43A9-DADF-42DE-9301-5FB775A4ECE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E13213-D8B3-4C3A-9E08-5355FFB2BA2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73E9E-8156-4A1A-B184-70ECEAC34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97A5C-1CFE-47F8-82E2-AD3810D35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46DC5-6E16-4304-B876-C1AAD2657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AEAE3-852E-4223-AE41-7BE2ACC1C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AA3CC-1717-4FA6-A9E3-CCD1172B9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7AEB4-B95D-4512-A8AA-CD3AEFA17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A0668-9B2C-4463-9936-C3785B2D8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0492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A1031-DAC3-4B98-BDB1-E70F95A25D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8059680" y="76320"/>
            <a:ext cx="998640" cy="129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251460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9FC3E-6446-4222-948B-4F1FD7AC9D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8145360" y="2209680"/>
            <a:ext cx="998640" cy="12956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tcl.tk/cgi-bin/tct/tip/" TargetMode="External"/><Relationship Id="rId2" Type="http://schemas.openxmlformats.org/officeDocument/2006/relationships/hyperlink" Target="http://www.tcl.tk/cgi-bin/tct/tip/" TargetMode="External"/><Relationship Id="rId3" Type="http://schemas.openxmlformats.org/officeDocument/2006/relationships/hyperlink" Target="http://www.tcl.tk/cgi-bin/tct/tip/" TargetMode="External"/><Relationship Id="rId4" Type="http://schemas.openxmlformats.org/officeDocument/2006/relationships/hyperlink" Target="http://www.tcl.tk/cgi-bin/tct/tip/" TargetMode="External"/><Relationship Id="rId5" Type="http://schemas.openxmlformats.org/officeDocument/2006/relationships/hyperlink" Target="http://www.tcl.tk/cgi-bin/tct/tip/" TargetMode="External"/><Relationship Id="rId6" Type="http://schemas.openxmlformats.org/officeDocument/2006/relationships/hyperlink" Target="http://www.tcl.tk/cgi-bin/tct/tip/" TargetMode="External"/><Relationship Id="rId7" Type="http://schemas.openxmlformats.org/officeDocument/2006/relationships/hyperlink" Target="http://www.tcl.tk/cgi-bin/tct/tip/" TargetMode="External"/><Relationship Id="rId8" Type="http://schemas.openxmlformats.org/officeDocument/2006/relationships/hyperlink" Target="http://www.tcl.tk/cgi-bin/tct/tip/" TargetMode="External"/><Relationship Id="rId9" Type="http://schemas.openxmlformats.org/officeDocument/2006/relationships/hyperlink" Target="http://www.tcl.tk/cgi-bin/tct/tip/" TargetMode="External"/><Relationship Id="rId10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cover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52280" y="6248520"/>
            <a:ext cx="883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 8.4 Over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pdated list command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lset comm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fficient way to replace el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ndex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ist ?index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..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ex into nested lists easi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search -all -ascii -decreasing -dictionary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increasing -inline -integer -not -real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sorted -sta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ile’ enhancemen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rtual File Sy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ows hooks into all FS function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ll support for 64-bit file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normali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separa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lin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test 2.0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Greatly enhanced ‘test’ comm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upports multiple error match typ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Runs multi-process for robustn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100% backwards compatible with v1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erial Port Contro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configu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rial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mod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aud,parity,data,stop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handshak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ype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queu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timeou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sec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ttycontro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gnalMap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ttystatu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xcha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harPair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pollinterva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sec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sysbuff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zeLi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configure -lasterr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64-bit “wide” integer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s int64 or long lo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 completely transparent 32/64-bit barri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r wide(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:tcl_platform(wordSiz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nary command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nary format wW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nary sca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tring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W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nged behavior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copy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respects encodings of its chann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ormat %l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likewise treat argument as wide inte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can %l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likewise no longer ignore the field width specif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urc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ats the byte 0x1a (^Z) as an EOF char on all platfo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ubs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at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reak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ntinu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ring command substitution different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cl_traceExe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cl_traceCompil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available with TCL_COMPILE_DEBUG buil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pdated ‘trace’ comman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ce ad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ce remo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ce inf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and tracing now possi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ormalized ‘memory’ comman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ful for debugging memory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quires compilation with TCL_MEM_DEBU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ac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in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onex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ta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ved memory displ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k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dget styling support (TIP #48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widg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gnificant widget enhanc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roved I18N and L10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oved XIM and IME sup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ll ?-nic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rst new feature of 8.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New Widge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pinbo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Builds on the entry widg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ast, feature rich and effici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panedwind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Part widget, part geometry mana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labelfr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eparate from frame to not bloat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l 8.4 Overview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Jeff Hobb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ew Tk subcommand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pboard g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age in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hoto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par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we can properly animate GIF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k caret </a:t>
            </a:r>
            <a:r>
              <a:rPr b="0" i="1" lang="en-CA" sz="3200" spc="-1" strike="noStrike">
                <a:solidFill>
                  <a:srgbClr val="000000"/>
                </a:solidFill>
                <a:latin typeface="Times New Roman"/>
              </a:rPr>
              <a:t>window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 ?-x x? ?-y y? ?-height h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or controlling global car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lso directs placement of IME/XIM wind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ext’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undo/redo support with ‘edit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undo, -autoseparators and -maxundo o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t’ takes multiple range pai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lete’ takes multiple range pai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omic dele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virtual ev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&lt;Selection&gt;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&lt;Modified&gt;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m’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m stackor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ew/Control the stacking order of toplev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m attribu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controlling the platform specific aspects of toplev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lementations for Mac and Wind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get Unix features in the fu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ally: topmost functionality on Wind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mpound widge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ow both image and text to be displayed simultaneous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ientation can be controlled with -compound o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ort for all button types and label widget, as well as in men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pdated widge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tto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abledbackground –disabledforeground -comp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try -state readonly -readonlybackgr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eckbutton -compound -overrelie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stbox -disabledforeground -state -activesty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enu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 -comp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nubutton -comp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diobutton -overrelie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ynchronous padding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ows left/right or top/bottom asymmetry in padding (-padx -pad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ies to widgets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p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belfr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geometry managers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id columnconfigu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aster inde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uni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id rowconfigu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aster inde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uni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k dialog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_getOpenFile -multiple -mess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_getSaveFile -mess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k_getOpenFil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k_getSaveFil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e different in whether the returned file name includes the extens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moved Tk Privat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Pri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[A-Z]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with ::tk::Priv and tk::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rt for ‘exporting’ the private comma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t don’t use them anywa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Steps to 8.4.0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esting, testing, testing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esting, testing, testing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Where to get i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cl Developer Xchan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Points to everyth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</a:rPr>
              <a:t>http://www.tcl.tk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ActiveState ActiveTc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Binary distributions with extens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 u="sng">
                <a:solidFill>
                  <a:srgbClr val="ff0000"/>
                </a:solidFill>
                <a:uFillTx/>
                <a:latin typeface="Lucida Console"/>
              </a:rPr>
              <a:t>http://www.activestate.com/Products/ActiveTc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ourceFor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ore source distrib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</a:rPr>
              <a:t>http://tcl.sourceforge.net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ment timel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fea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eps to 8.4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bout ActiveSt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ctiveState provides multi-language, cross-platform software &amp;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, Perl, PHP, Python, XS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Linux, Solaris, Windows, HP-UX, AIX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e make it easy to use new technolog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Web Services and .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ission: Make Programming Eas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Our 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ctive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SP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563868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0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522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621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3716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9810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5909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004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4197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6386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2485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28600" y="1714680"/>
            <a:ext cx="0" cy="952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rot="16200000">
            <a:off x="2019240" y="1257120"/>
            <a:ext cx="228600" cy="38098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2400 h 3809880"/>
              <a:gd name="textAreaBottom" fmla="*/ 3777480 h 3809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10210"/>
                </a:lnTo>
                <a:cubicBezTo>
                  <a:pt x="10800" y="10505"/>
                  <a:pt x="5400" y="10799"/>
                  <a:pt x="0" y="10799"/>
                </a:cubicBezTo>
                <a:cubicBezTo>
                  <a:pt x="5400" y="10799"/>
                  <a:pt x="10800" y="11094"/>
                  <a:pt x="10800" y="11388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2133720" y="33523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6200000">
            <a:off x="5078160" y="2084040"/>
            <a:ext cx="228600" cy="2155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18360 h 2155680"/>
              <a:gd name="textAreaBottom" fmla="*/ 2137320 h 2155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7029"/>
                </a:lnTo>
                <a:cubicBezTo>
                  <a:pt x="10800" y="7324"/>
                  <a:pt x="5400" y="7618"/>
                  <a:pt x="0" y="7618"/>
                </a:cubicBezTo>
                <a:cubicBezTo>
                  <a:pt x="5400" y="7618"/>
                  <a:pt x="10800" y="7913"/>
                  <a:pt x="10800" y="8207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4876920" y="3352320"/>
            <a:ext cx="0" cy="1411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29460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41280" y="5846760"/>
            <a:ext cx="8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425680" y="584676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0360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020080" y="5830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M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036880" y="6006960"/>
            <a:ext cx="35856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263760" y="5999040"/>
            <a:ext cx="4651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738680" y="5999040"/>
            <a:ext cx="45720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276960" y="6006960"/>
            <a:ext cx="38088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11956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2280" y="3809880"/>
            <a:ext cx="2667240" cy="10670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pen source distrib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om U.C. Berkele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sy GUIs under Un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nsible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016080" y="4764240"/>
            <a:ext cx="3629160" cy="1066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enhanced at Sun Microsystem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s, Macintosh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/Internet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va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422520" y="1295280"/>
            <a:ext cx="3048120" cy="838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form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olve and extend Tcl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development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0240" y="1181160"/>
            <a:ext cx="3170160" cy="8762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reated as general-purpose command/scripting language by John Ousterh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64524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5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772400" y="5999040"/>
            <a:ext cx="3049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8098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8580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0292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4674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58080" y="4095720"/>
            <a:ext cx="28191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7931160" y="2971440"/>
            <a:ext cx="7920" cy="1066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0773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819792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57840" y="1143000"/>
            <a:ext cx="2416320" cy="914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7499520" y="2971800"/>
            <a:ext cx="368280" cy="44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756400" y="3419640"/>
            <a:ext cx="1949400" cy="571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957320" y="2400480"/>
            <a:ext cx="633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156120" y="2400480"/>
            <a:ext cx="642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37184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4 Ju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029200" y="2400480"/>
            <a:ext cx="54756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6 O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804000" y="2400480"/>
            <a:ext cx="5716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1 A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0" y="3029040"/>
            <a:ext cx="59832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2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461360" y="2400480"/>
            <a:ext cx="5587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3 F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8686800" y="257184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49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8656560" y="2571840"/>
            <a:ext cx="48564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 flipV="1">
            <a:off x="6883560" y="3282840"/>
            <a:ext cx="0" cy="860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3193920" y="3276360"/>
            <a:ext cx="0" cy="191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1828800" y="3276360"/>
            <a:ext cx="0" cy="866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63868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" y="1509840"/>
            <a:ext cx="0" cy="1461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600200" y="2238480"/>
            <a:ext cx="0" cy="733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cent 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000240" y="5189400"/>
            <a:ext cx="2990880" cy="10479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; Tcl/Tk core moves to SourceForge; TclPro open sourced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963960" y="1666800"/>
            <a:ext cx="0" cy="130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648240" y="1057320"/>
            <a:ext cx="2771640" cy="6094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2443320" y="3265200"/>
            <a:ext cx="0" cy="193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53920" y="5200560"/>
            <a:ext cx="19497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2860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60036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162320" y="2590920"/>
            <a:ext cx="943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39680" y="3524400"/>
            <a:ext cx="9288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0 Fe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90680" y="2467080"/>
            <a:ext cx="952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1 Ap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952640" y="2467080"/>
            <a:ext cx="9716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2 Au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308240" y="3648240"/>
            <a:ext cx="98568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1 Ju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949480" y="3648240"/>
            <a:ext cx="100980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2 No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39680" y="1176480"/>
            <a:ext cx="2573280" cy="3333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2K in Austin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03280" y="1666800"/>
            <a:ext cx="205128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becomes Ajuba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714840" y="4019400"/>
            <a:ext cx="1923840" cy="5526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1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5148360" y="3276360"/>
            <a:ext cx="0" cy="74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57880" y="1819440"/>
            <a:ext cx="212400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419880" y="480060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. ActiveTcl 8.3.4.3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7772400" y="32763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7848720" y="3276360"/>
            <a:ext cx="0" cy="618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8035920" y="2052720"/>
            <a:ext cx="914400" cy="371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 8.4.0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44520" y="4143240"/>
            <a:ext cx="194940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0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3454560" y="4782960"/>
            <a:ext cx="433080" cy="417600"/>
            <a:chOff x="3454560" y="4782960"/>
            <a:chExt cx="433080" cy="417600"/>
          </a:xfrm>
        </p:grpSpPr>
        <p:sp>
          <p:nvSpPr>
            <p:cNvPr id="183" name=""/>
            <p:cNvSpPr/>
            <p:nvPr/>
          </p:nvSpPr>
          <p:spPr>
            <a:xfrm>
              <a:off x="3679560" y="49046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55896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355824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50676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350640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506400" y="4974480"/>
              <a:ext cx="31176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454560" y="4902840"/>
              <a:ext cx="4330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7772400" y="283860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7900920" y="6278400"/>
            <a:ext cx="1045800" cy="276480"/>
            <a:chOff x="7900920" y="6278400"/>
            <a:chExt cx="1045800" cy="276480"/>
          </a:xfrm>
        </p:grpSpPr>
        <p:sp>
          <p:nvSpPr>
            <p:cNvPr id="192" name=""/>
            <p:cNvSpPr/>
            <p:nvPr/>
          </p:nvSpPr>
          <p:spPr>
            <a:xfrm>
              <a:off x="7921800" y="627840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900920" y="627840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5357880" y="340056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Ju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962760" y="2971800"/>
            <a:ext cx="1886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96080" y="3886200"/>
            <a:ext cx="914400" cy="371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1320" y="259092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M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8305920" y="2486160"/>
            <a:ext cx="0" cy="48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143760" y="3733920"/>
            <a:ext cx="9428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4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824440" y="4143240"/>
            <a:ext cx="17337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. ActiveState TclPro (De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691320" y="5505480"/>
            <a:ext cx="221148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2. ActiveState TclPro 2.0 beta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 8.4 Development: TIP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First time the TIP process has defined a Tcl release</a:t>
            </a:r>
            <a:br>
              <a:rPr sz="3200"/>
            </a:b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1"/>
              </a:rPr>
              <a:t>http://www.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2"/>
              </a:rPr>
              <a:t>tcl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3"/>
              </a:rPr>
              <a:t>.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4"/>
              </a:rPr>
              <a:t>tk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5"/>
              </a:rPr>
              <a:t>/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6"/>
              </a:rPr>
              <a:t>cgi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7"/>
              </a:rPr>
              <a:t>-bin/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8"/>
              </a:rPr>
              <a:t>tct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9"/>
              </a:rPr>
              <a:t>/tip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IPs are intended to guide and document development on the c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itially rough, but process has improv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Of the 100+ TIPs, most targeted 8.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any thanks to the maintainers and contribut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0+% improved performance over 8.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letely new Virtual File System (VF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rovements to numerous comma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4-bit integer and file system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nor command enhancemen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ray statis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ray nam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rrayName ?mo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?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patt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p recursionlim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sub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switch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?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xp string subSpec ?varNa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set ?-nocomplain? ?..?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nam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.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r ‘eq’ and ‘ne’ for true string comparis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 -tail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atter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mespace exi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o scrip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filena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All User</cp:lastModifiedBy>
  <cp:lastPrinted>1999-01-02T23:07:33Z</cp:lastPrinted>
  <dcterms:modified xsi:type="dcterms:W3CDTF">2002-07-04T19:20:54Z</dcterms:modified>
  <cp:revision>406</cp:revision>
  <dc:subject/>
  <dc:title>8.4 Tcl Overview</dc:title>
</cp:coreProperties>
</file>