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6"/>
          </p:nvPr>
        </p:nvSpPr>
        <p:spPr>
          <a:xfrm>
            <a:off x="3927240" y="-36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7"/>
          </p:nvPr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8"/>
          </p:nvPr>
        </p:nvSpPr>
        <p:spPr>
          <a:xfrm>
            <a:off x="3927240" y="875772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5C76D27-9D96-45A8-847D-D8B98F94D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2036D59-A4F0-4C13-8DB4-E286A7E6A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22F6DD9-8E07-4FC8-9340-F4F2FF8EB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67C15DB-6FA8-4521-979F-8B8737B8E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D1DEAB7-851C-4DE2-9C2D-BFE9A6A9D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DB38E30-CC1D-4CCD-9E5F-7C59ECEB3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ED52EFA-4A33-40D1-A648-EACB17107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2C23B9D-D8A0-4CF7-BC49-9A55FD90F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6BE6D3C-8136-43E8-B348-9A1D88252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C2FC21E-5041-4467-A8B1-52A51004E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E5EC527-4FBB-4F0C-90F7-AB8DFD720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3770357-0A3D-4A9B-AD5A-AA627D876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09C2B7A-7EFB-4494-8364-940E36ABF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87BF849-8196-4743-B418-2B14B9601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72B6C92-A869-47DE-8EDF-096D230B2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F00606B-DBA2-430C-A176-0FE56A3B7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8D86E-AEA8-41A2-8FDF-EC60EBDA90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5CBDF-26C1-45E2-9934-D8B4DEE33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8A2C2-A74F-44F7-8D73-700BEAB6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2F4A7-0EDD-45AA-A79E-1B02165E9C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F50FCD-E04A-4F85-A655-195F0C272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1C2BF6-8EBE-4964-897A-F711CBC66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B7F585-5825-4865-BE7B-3462F82F8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0E3144-2A04-496A-B039-66868BBB4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0B3763-744A-4F1B-95D6-5C4422BE7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5340C3-600B-47D1-9EFC-EDA6BD72B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9722E3-EDC0-4196-9916-262AB2FA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C482C-D1DC-4DA1-B452-469E41C18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B98DB1-A16F-4503-A635-0D91F596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E66BF3-8785-4D0B-BB3E-5A840415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07A1F4-E85F-490F-9876-CC2D7BAC5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255297-88CC-4A9F-A6B4-33B4D76B9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9DC5EC-A90B-48BC-A01D-122B3D0F8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8F23C-86A9-444A-B1F1-CFA857A68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71900-F0C9-4298-B048-B75AE8E1B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7B73B-73D3-45A9-9544-D43421C0D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1FE55-C9C8-4C60-920F-D12205378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0501A-CD42-4942-9288-6EAACE88D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9EC87-6CB0-46F8-8A33-9E4CC56B6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E1EDE-39C1-4626-B576-B5265FC53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8" descr="noc_logo"/>
          <p:cNvPicPr/>
          <p:nvPr/>
        </p:nvPicPr>
        <p:blipFill>
          <a:blip r:embed="rId2"/>
          <a:srcRect l="0" t="0" r="0" b="8239"/>
          <a:stretch/>
        </p:blipFill>
        <p:spPr>
          <a:xfrm>
            <a:off x="7032600" y="282600"/>
            <a:ext cx="1984320" cy="469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480" y="6661080"/>
            <a:ext cx="18288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84"/>
          <p:cNvSpPr/>
          <p:nvPr/>
        </p:nvSpPr>
        <p:spPr>
          <a:xfrm>
            <a:off x="0" y="990720"/>
            <a:ext cx="9144000" cy="75960"/>
          </a:xfrm>
          <a:prstGeom prst="rect">
            <a:avLst/>
          </a:prstGeom>
          <a:solidFill>
            <a:srgbClr val="005d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19746-13EE-471B-9DAF-71F5A1DCAC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44"/>
          <p:cNvGrpSpPr/>
          <p:nvPr/>
        </p:nvGrpSpPr>
        <p:grpSpPr>
          <a:xfrm>
            <a:off x="4952880" y="663480"/>
            <a:ext cx="3467160" cy="612720"/>
            <a:chOff x="4952880" y="663480"/>
            <a:chExt cx="3467160" cy="612720"/>
          </a:xfrm>
        </p:grpSpPr>
        <p:sp>
          <p:nvSpPr>
            <p:cNvPr id="43" name="Freeform 45"/>
            <p:cNvSpPr/>
            <p:nvPr/>
          </p:nvSpPr>
          <p:spPr>
            <a:xfrm>
              <a:off x="4952880" y="666000"/>
              <a:ext cx="294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5213880" y="663480"/>
              <a:ext cx="23328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5414040" y="666000"/>
              <a:ext cx="2347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5661360" y="666000"/>
              <a:ext cx="2113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5807160" y="666000"/>
              <a:ext cx="2890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6032520" y="666000"/>
              <a:ext cx="23724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6249240" y="663480"/>
              <a:ext cx="23472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6449400" y="666000"/>
              <a:ext cx="23580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6763320" y="664560"/>
              <a:ext cx="223560" cy="16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6938640" y="667440"/>
              <a:ext cx="231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155360" y="667440"/>
              <a:ext cx="2552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7353720" y="667440"/>
              <a:ext cx="312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7605720" y="666000"/>
              <a:ext cx="312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7848720" y="667440"/>
              <a:ext cx="24876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8102880" y="667440"/>
              <a:ext cx="29052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5329440" y="865080"/>
              <a:ext cx="3090600" cy="40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5336280" y="872280"/>
              <a:ext cx="3076560" cy="38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62"/>
            <p:cNvSpPr/>
            <p:nvPr/>
          </p:nvSpPr>
          <p:spPr>
            <a:xfrm>
              <a:off x="5953320" y="1142280"/>
              <a:ext cx="87480" cy="12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Freeform 63"/>
            <p:cNvSpPr/>
            <p:nvPr/>
          </p:nvSpPr>
          <p:spPr>
            <a:xfrm>
              <a:off x="610488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623664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636192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6481440" y="1173240"/>
              <a:ext cx="694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662868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6748200" y="1173240"/>
              <a:ext cx="691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6892560" y="1171800"/>
              <a:ext cx="73440" cy="10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713304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727200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742068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764712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Freeform 74"/>
            <p:cNvSpPr/>
            <p:nvPr/>
          </p:nvSpPr>
          <p:spPr>
            <a:xfrm>
              <a:off x="7775280" y="1173240"/>
              <a:ext cx="662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Freeform 75"/>
            <p:cNvSpPr/>
            <p:nvPr/>
          </p:nvSpPr>
          <p:spPr>
            <a:xfrm>
              <a:off x="7914240" y="1173240"/>
              <a:ext cx="662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8051400" y="1173240"/>
              <a:ext cx="680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8199000" y="1173240"/>
              <a:ext cx="730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834336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96705-AB83-44BC-9DB1-AEBB86AEA9A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47800" y="3741480"/>
            <a:ext cx="7772400" cy="98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10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Annual Tcl/Tk Conference</a:t>
            </a:r>
            <a:br>
              <a:rPr sz="26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ctober 2008</a:t>
            </a: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53"/>
          <p:cNvSpPr/>
          <p:nvPr/>
        </p:nvSpPr>
        <p:spPr>
          <a:xfrm>
            <a:off x="5364360" y="5253120"/>
            <a:ext cx="33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mothy L. Tomkin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54"/>
          <p:cNvSpPr/>
          <p:nvPr/>
        </p:nvSpPr>
        <p:spPr>
          <a:xfrm>
            <a:off x="4356360" y="5703840"/>
            <a:ext cx="44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ellow Software Engine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rthrop Grumman Electronic Syste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64"/>
          <p:cNvSpPr/>
          <p:nvPr/>
        </p:nvSpPr>
        <p:spPr>
          <a:xfrm>
            <a:off x="851040" y="2365200"/>
            <a:ext cx="777240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Remote Control of Test Equipment Using Distributed Object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1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fidl” package used to call share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oreign Function Interface with Dynamic Loading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cl extension on top of either “libffi” or “fficall”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reates Tcl commands that map to functions in shared librari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LLs (Windows) or shared objects (Uni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or CO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amples: Win32, NI-VISA, 1553, VME, PCI, etc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liminates need to write Tcl extensions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orted to VxWork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s VxWorks symbol tab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lows direct calls to kernel and user modu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apper class created for each library to provide object-orient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AF9A4-AD15-44AD-8DEE-EEA5E70E91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 (cont’d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1143000" y="221940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1143000" y="40543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fid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Line 5"/>
          <p:cNvSpPr/>
          <p:nvPr/>
        </p:nvSpPr>
        <p:spPr>
          <a:xfrm>
            <a:off x="1758960" y="28195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1143000" y="49687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8"/>
          <p:cNvSpPr/>
          <p:nvPr/>
        </p:nvSpPr>
        <p:spPr>
          <a:xfrm>
            <a:off x="1757520" y="46483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AutoShape 9"/>
          <p:cNvSpPr/>
          <p:nvPr/>
        </p:nvSpPr>
        <p:spPr>
          <a:xfrm>
            <a:off x="1143000" y="5827680"/>
            <a:ext cx="1143000" cy="725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10"/>
          <p:cNvSpPr/>
          <p:nvPr/>
        </p:nvSpPr>
        <p:spPr>
          <a:xfrm>
            <a:off x="1757520" y="55627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2CFDC4-2E58-4421-98C0-49381F43B3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AutoShape 12"/>
          <p:cNvSpPr/>
          <p:nvPr/>
        </p:nvSpPr>
        <p:spPr>
          <a:xfrm>
            <a:off x="1143000" y="129528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crip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Line 13"/>
          <p:cNvSpPr/>
          <p:nvPr/>
        </p:nvSpPr>
        <p:spPr>
          <a:xfrm>
            <a:off x="1749600" y="1889280"/>
            <a:ext cx="288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AutoShape 3"/>
          <p:cNvSpPr/>
          <p:nvPr/>
        </p:nvSpPr>
        <p:spPr>
          <a:xfrm>
            <a:off x="1143000" y="314964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rapp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1755720" y="3743280"/>
            <a:ext cx="180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Rectangle 25"/>
          <p:cNvSpPr/>
          <p:nvPr/>
        </p:nvSpPr>
        <p:spPr>
          <a:xfrm>
            <a:off x="2561040" y="1371600"/>
            <a:ext cx="40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 scripts written in procedural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Rectangle 26"/>
          <p:cNvSpPr/>
          <p:nvPr/>
        </p:nvSpPr>
        <p:spPr>
          <a:xfrm>
            <a:off x="2540520" y="2300400"/>
            <a:ext cx="484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ice drivers written in object-oriented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27"/>
          <p:cNvSpPr/>
          <p:nvPr/>
        </p:nvSpPr>
        <p:spPr>
          <a:xfrm>
            <a:off x="2464560" y="3214800"/>
            <a:ext cx="63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brary wrappers provide OO interface to shared 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Rectangle 28"/>
          <p:cNvSpPr/>
          <p:nvPr/>
        </p:nvSpPr>
        <p:spPr>
          <a:xfrm>
            <a:off x="2580480" y="4129200"/>
            <a:ext cx="42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acts as bridge between Tcl and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Rectangle 29"/>
          <p:cNvSpPr/>
          <p:nvPr/>
        </p:nvSpPr>
        <p:spPr>
          <a:xfrm>
            <a:off x="2666880" y="50436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ared libraries: DLLs or shared objects, custom or CO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30"/>
          <p:cNvSpPr/>
          <p:nvPr/>
        </p:nvSpPr>
        <p:spPr>
          <a:xfrm>
            <a:off x="2666880" y="6033960"/>
            <a:ext cx="53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rdware dev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evice Driver Class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5486400" y="1969920"/>
            <a:ext cx="3352680" cy="34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mmand table contains method names vs. command string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itialization code creates public methods for each command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ublic methods call the same private method to write to devic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concept used for query comma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216F66-1E62-4AEF-9177-F747DF5B57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AutoShape 15"/>
          <p:cNvSpPr/>
          <p:nvPr/>
        </p:nvSpPr>
        <p:spPr>
          <a:xfrm>
            <a:off x="457200" y="1600200"/>
            <a:ext cx="4724280" cy="44164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473760" y="1676520"/>
            <a:ext cx="447840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 PowerSupply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ackage require NiVisa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;# library wrapp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Command table (method vs. command string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each {method cmdStr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set   *R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tage VOL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Create write metho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blic method $method {args} \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“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val handleWrite $cmdStr {$args}”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Write to devic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vate method handleWrite {args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niVisa write $ar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Examp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res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voltage 5.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15"/>
          <p:cNvSpPr/>
          <p:nvPr/>
        </p:nvSpPr>
        <p:spPr>
          <a:xfrm>
            <a:off x="1447920" y="3124080"/>
            <a:ext cx="4800600" cy="29718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AutoShape 15"/>
          <p:cNvSpPr/>
          <p:nvPr/>
        </p:nvSpPr>
        <p:spPr>
          <a:xfrm>
            <a:off x="1447920" y="1752480"/>
            <a:ext cx="480060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67D6B3-346F-4B02-A6B2-133D38F99F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609480" y="1295280"/>
            <a:ext cx="78487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er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Start the ser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te::config –port 5000 –local 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8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reate instance of “Remote”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remote [Remote #auto $hostname 5000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send” method to load packag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remote send “package require PowerSupply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new” method to create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ps [$remote new PowerSupply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all method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res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voltage 5.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09480" y="129492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RBA paradigm very easy to implement in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tcl provides all necessary object-oriented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’s introspection facility eliminates need for interface definition fi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 package provides robust remote procedure cal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is perfect for controlling hardw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asy to call C libraries without writing Tcl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 use existing device drivers, either COTS or cust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’s portability allows seamless control across multiple platfor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tributed object architecture provides rapid develop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de can be tested and debugged on local P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 deploy, only a few extra lines are required to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knowledge of network programming is requir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ce code does not need to be modified, any Itcl object can be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st, simple, in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72433-3075-4EC8-A10D-B19D1DE640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4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0F3139-87CB-4D9A-BF2D-92647320AD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" name="Picture 4" descr="logo_tag_placeholder"/>
          <p:cNvPicPr/>
          <p:nvPr/>
        </p:nvPicPr>
        <p:blipFill>
          <a:blip r:embed="rId1"/>
          <a:srcRect l="10568" t="2763" r="10499" b="2763"/>
          <a:stretch/>
        </p:blipFill>
        <p:spPr>
          <a:xfrm>
            <a:off x="1440" y="0"/>
            <a:ext cx="914112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gend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7720" y="144792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 Controlling Complex Test St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unication between network nod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ing Solu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f-the-shelf solution using CORB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solution using distributed objec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and Ffid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137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3862A-70F6-4FEC-8A21-82AA6E7D7A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62120" y="12193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.S. Electrical Engineering: Carnegie Mellon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.S. Computer Science: Johns Hopkins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ir Force: 5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atellite Software Engine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MSP: Weather Satellit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rthrop Grumman: 14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mbedded, real-time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ME, CompactPC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/C++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st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ndows, Unix, 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thernet, GPIB, RS-232, 1553, US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, C/C++, SQ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 User: 10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B38B5-961A-4411-B774-CD376566B5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38C1C5-C548-42EA-9123-83BAB64FA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ypical Test Sta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466920" y="534528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tretch/>
        </p:blipFill>
        <p:spPr>
          <a:xfrm>
            <a:off x="7331040" y="1981080"/>
            <a:ext cx="1195560" cy="2066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1"/>
          <p:cNvSpPr/>
          <p:nvPr/>
        </p:nvSpPr>
        <p:spPr>
          <a:xfrm>
            <a:off x="5977800" y="190188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PI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2"/>
          <a:stretch/>
        </p:blipFill>
        <p:spPr>
          <a:xfrm>
            <a:off x="7702560" y="2971800"/>
            <a:ext cx="977760" cy="6541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13"/>
          <p:cNvSpPr/>
          <p:nvPr/>
        </p:nvSpPr>
        <p:spPr>
          <a:xfrm>
            <a:off x="7929000" y="3510000"/>
            <a:ext cx="52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Box 15"/>
          <p:cNvSpPr/>
          <p:nvPr/>
        </p:nvSpPr>
        <p:spPr>
          <a:xfrm>
            <a:off x="2412360" y="24354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M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12" descr=""/>
          <p:cNvPicPr/>
          <p:nvPr/>
        </p:nvPicPr>
        <p:blipFill>
          <a:blip r:embed="rId3"/>
          <a:stretch/>
        </p:blipFill>
        <p:spPr>
          <a:xfrm>
            <a:off x="743040" y="2743200"/>
            <a:ext cx="1390680" cy="846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17"/>
          <p:cNvSpPr/>
          <p:nvPr/>
        </p:nvSpPr>
        <p:spPr>
          <a:xfrm>
            <a:off x="806040" y="3594240"/>
            <a:ext cx="12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pact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icture 13" descr=""/>
          <p:cNvPicPr/>
          <p:nvPr/>
        </p:nvPicPr>
        <p:blipFill>
          <a:blip r:embed="rId4"/>
          <a:stretch/>
        </p:blipFill>
        <p:spPr>
          <a:xfrm>
            <a:off x="5759280" y="1498680"/>
            <a:ext cx="1032120" cy="40644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0"/>
          <p:cNvSpPr/>
          <p:nvPr/>
        </p:nvSpPr>
        <p:spPr>
          <a:xfrm>
            <a:off x="7551000" y="218916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15" descr=""/>
          <p:cNvPicPr/>
          <p:nvPr/>
        </p:nvPicPr>
        <p:blipFill>
          <a:blip r:embed="rId5"/>
          <a:stretch/>
        </p:blipFill>
        <p:spPr>
          <a:xfrm>
            <a:off x="2209680" y="1617840"/>
            <a:ext cx="952560" cy="823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6" descr=""/>
          <p:cNvPicPr/>
          <p:nvPr/>
        </p:nvPicPr>
        <p:blipFill>
          <a:blip r:embed="rId6"/>
          <a:stretch/>
        </p:blipFill>
        <p:spPr>
          <a:xfrm>
            <a:off x="304920" y="444492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0" descr=""/>
          <p:cNvPicPr/>
          <p:nvPr/>
        </p:nvPicPr>
        <p:blipFill>
          <a:blip r:embed="rId7"/>
          <a:stretch/>
        </p:blipFill>
        <p:spPr>
          <a:xfrm>
            <a:off x="5638680" y="2874960"/>
            <a:ext cx="1370160" cy="1027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8"/>
          <a:stretch/>
        </p:blipFill>
        <p:spPr>
          <a:xfrm>
            <a:off x="3657600" y="4684680"/>
            <a:ext cx="2027160" cy="15192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28"/>
          <p:cNvSpPr/>
          <p:nvPr/>
        </p:nvSpPr>
        <p:spPr>
          <a:xfrm>
            <a:off x="5789160" y="382284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trol PC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22" descr=""/>
          <p:cNvPicPr/>
          <p:nvPr/>
        </p:nvPicPr>
        <p:blipFill>
          <a:blip r:embed="rId9"/>
          <a:stretch/>
        </p:blipFill>
        <p:spPr>
          <a:xfrm>
            <a:off x="4091040" y="1285920"/>
            <a:ext cx="1090440" cy="87948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1"/>
          <p:cNvSpPr/>
          <p:nvPr/>
        </p:nvSpPr>
        <p:spPr>
          <a:xfrm>
            <a:off x="4185720" y="2189160"/>
            <a:ext cx="9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thern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23" descr=""/>
          <p:cNvPicPr/>
          <p:nvPr/>
        </p:nvPicPr>
        <p:blipFill>
          <a:blip r:embed="rId10"/>
          <a:stretch/>
        </p:blipFill>
        <p:spPr>
          <a:xfrm>
            <a:off x="7819920" y="4114800"/>
            <a:ext cx="717480" cy="5256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3"/>
          <p:cNvSpPr/>
          <p:nvPr/>
        </p:nvSpPr>
        <p:spPr>
          <a:xfrm>
            <a:off x="7885080" y="465120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55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56" name="Straight Arrow Connector 35"/>
          <p:cNvCxnSpPr/>
          <p:nvPr/>
        </p:nvCxnSpPr>
        <p:spPr>
          <a:xfrm flipH="1" flipV="1">
            <a:off x="1414080" y="4930200"/>
            <a:ext cx="2318400" cy="415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7" name="Straight Arrow Connector 40"/>
          <p:cNvCxnSpPr/>
          <p:nvPr/>
        </p:nvCxnSpPr>
        <p:spPr>
          <a:xfrm flipH="1" flipV="1">
            <a:off x="2133000" y="3739680"/>
            <a:ext cx="1662840" cy="1191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8" name="Straight Arrow Connector 42"/>
          <p:cNvCxnSpPr/>
          <p:nvPr/>
        </p:nvCxnSpPr>
        <p:spPr>
          <a:xfrm flipH="1" flipV="1">
            <a:off x="3085560" y="2648880"/>
            <a:ext cx="1005480" cy="2035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9" name="Straight Arrow Connector 45"/>
          <p:cNvCxnSpPr/>
          <p:nvPr/>
        </p:nvCxnSpPr>
        <p:spPr>
          <a:xfrm flipV="1">
            <a:off x="4669200" y="2587320"/>
            <a:ext cx="1080" cy="2097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0" name="Straight Arrow Connector 50"/>
          <p:cNvCxnSpPr/>
          <p:nvPr/>
        </p:nvCxnSpPr>
        <p:spPr>
          <a:xfrm flipV="1">
            <a:off x="5409000" y="4129920"/>
            <a:ext cx="407160" cy="554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1" name="Straight Arrow Connector 56"/>
          <p:cNvCxnSpPr>
            <a:endCxn id="139" idx="2"/>
          </p:cNvCxnSpPr>
          <p:nvPr/>
        </p:nvCxnSpPr>
        <p:spPr>
          <a:xfrm flipH="1" flipV="1">
            <a:off x="6274800" y="2209680"/>
            <a:ext cx="1080" cy="665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2" name="Straight Arrow Connector 59"/>
          <p:cNvCxnSpPr/>
          <p:nvPr/>
        </p:nvCxnSpPr>
        <p:spPr>
          <a:xfrm flipV="1">
            <a:off x="7008840" y="2496240"/>
            <a:ext cx="527760" cy="43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3" name="Straight Arrow Connector 61"/>
          <p:cNvCxnSpPr>
            <a:stCxn id="153" idx="3"/>
          </p:cNvCxnSpPr>
          <p:nvPr/>
        </p:nvCxnSpPr>
        <p:spPr>
          <a:xfrm flipV="1">
            <a:off x="7008480" y="3297960"/>
            <a:ext cx="694440" cy="89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4" name="Straight Arrow Connector 64"/>
          <p:cNvCxnSpPr/>
          <p:nvPr/>
        </p:nvCxnSpPr>
        <p:spPr>
          <a:xfrm>
            <a:off x="7125840" y="3822480"/>
            <a:ext cx="577080" cy="292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5" name="TextBox 5"/>
          <p:cNvSpPr/>
          <p:nvPr/>
        </p:nvSpPr>
        <p:spPr>
          <a:xfrm>
            <a:off x="3831480" y="60768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or P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Picture 24" descr=""/>
          <p:cNvPicPr/>
          <p:nvPr/>
        </p:nvPicPr>
        <p:blipFill>
          <a:blip r:embed="rId11"/>
          <a:stretch/>
        </p:blipFill>
        <p:spPr>
          <a:xfrm>
            <a:off x="6894360" y="4724280"/>
            <a:ext cx="801720" cy="752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85"/>
          <p:cNvSpPr/>
          <p:nvPr/>
        </p:nvSpPr>
        <p:spPr>
          <a:xfrm>
            <a:off x="7064280" y="5416560"/>
            <a:ext cx="4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8" name="Straight Arrow Connector 86"/>
          <p:cNvCxnSpPr/>
          <p:nvPr/>
        </p:nvCxnSpPr>
        <p:spPr>
          <a:xfrm>
            <a:off x="6831000" y="4159080"/>
            <a:ext cx="295560" cy="526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37720" y="1523880"/>
            <a:ext cx="769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custom client/server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network programming on different platfor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teep learning curve on some platforms/langu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define network protocol and message struct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parate code required to encapsulate and extract mess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edious to maintai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98530-C44C-42A2-92C9-8E04A4F230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AutoShape 15"/>
          <p:cNvSpPr/>
          <p:nvPr/>
        </p:nvSpPr>
        <p:spPr>
          <a:xfrm>
            <a:off x="4648320" y="4525920"/>
            <a:ext cx="2601720" cy="1523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4669920" y="4559400"/>
            <a:ext cx="2558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Power Supply Messag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ypedef struc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essageId     msg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werSupplyId ps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loat         voltage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PowerSupplyMsg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 rot="366600">
            <a:off x="4952520" y="4222440"/>
            <a:ext cx="2057400" cy="22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cc0000">
                    <a:alpha val="80000"/>
                  </a:srgbClr>
                </a:solidFill>
                <a:latin typeface="Arial Narrow"/>
              </a:rPr>
              <a:t>X</a:t>
            </a:r>
            <a:endParaRPr b="0" i="1" lang="en-US" sz="1800" spc="1" strike="noStrike">
              <a:ln w="0">
                <a:noFill/>
              </a:ln>
              <a:solidFill>
                <a:srgbClr val="cc0000">
                  <a:alpha val="80000"/>
                </a:srgbClr>
              </a:solidFill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3716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on Object Request Broker Architect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atform-independent infrastructure for communicating over a net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ssages are defined using a generic Interface Definition Language (ID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L compiler generates client and server ob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object used to connect to server object and execute remote method cal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thod arguments, return values, and exceptions are encapsulated and extracted automatically according to ID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B (Object Request Broker) provides main event loop processing and message dispatch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icated/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5C081-E438-4206-8BA3-A32B5F93E6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 Architectu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3809880" y="14479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IDL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3809880" y="2590920"/>
            <a:ext cx="152424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DL Compil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762120" y="2209680"/>
            <a:ext cx="2438280" cy="38862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5943600" y="2209680"/>
            <a:ext cx="2438280" cy="381024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AutoShape 11"/>
          <p:cNvSpPr/>
          <p:nvPr/>
        </p:nvSpPr>
        <p:spPr>
          <a:xfrm>
            <a:off x="6400800" y="3886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AutoShape 12"/>
          <p:cNvSpPr/>
          <p:nvPr/>
        </p:nvSpPr>
        <p:spPr>
          <a:xfrm>
            <a:off x="6400800" y="274176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kelet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AutoShape 13"/>
          <p:cNvSpPr/>
          <p:nvPr/>
        </p:nvSpPr>
        <p:spPr>
          <a:xfrm>
            <a:off x="640080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Line 25"/>
          <p:cNvSpPr/>
          <p:nvPr/>
        </p:nvSpPr>
        <p:spPr>
          <a:xfrm>
            <a:off x="2743200" y="3124080"/>
            <a:ext cx="1066680" cy="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26"/>
          <p:cNvSpPr/>
          <p:nvPr/>
        </p:nvSpPr>
        <p:spPr>
          <a:xfrm>
            <a:off x="5181480" y="3124080"/>
            <a:ext cx="121932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Line 27"/>
          <p:cNvSpPr/>
          <p:nvPr/>
        </p:nvSpPr>
        <p:spPr>
          <a:xfrm flipV="1">
            <a:off x="4572000" y="2209680"/>
            <a:ext cx="0" cy="53352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F72E8E-355C-4353-B384-2F9C0883FA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AutoShape 13"/>
          <p:cNvSpPr/>
          <p:nvPr/>
        </p:nvSpPr>
        <p:spPr>
          <a:xfrm>
            <a:off x="121932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1" name="Straight Arrow Connector 19"/>
          <p:cNvCxnSpPr>
            <a:stCxn id="183" idx="0"/>
            <a:endCxn id="184" idx="2"/>
          </p:cNvCxnSpPr>
          <p:nvPr/>
        </p:nvCxnSpPr>
        <p:spPr>
          <a:xfrm flipV="1">
            <a:off x="7160040" y="3504960"/>
            <a:ext cx="3960" cy="3830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92" name="AutoShape 12"/>
          <p:cNvSpPr/>
          <p:nvPr/>
        </p:nvSpPr>
        <p:spPr>
          <a:xfrm>
            <a:off x="1219320" y="2743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3" name="Straight Arrow Connector 25"/>
          <p:cNvCxnSpPr/>
          <p:nvPr/>
        </p:nvCxnSpPr>
        <p:spPr>
          <a:xfrm flipH="1">
            <a:off x="1982520" y="3506400"/>
            <a:ext cx="2160" cy="1600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4" name="Straight Arrow Connector 29"/>
          <p:cNvCxnSpPr>
            <a:endCxn id="185" idx="2"/>
          </p:cNvCxnSpPr>
          <p:nvPr/>
        </p:nvCxnSpPr>
        <p:spPr>
          <a:xfrm>
            <a:off x="2666880" y="5524560"/>
            <a:ext cx="3734640" cy="2160"/>
          </a:xfrm>
          <a:prstGeom prst="straightConnector1">
            <a:avLst/>
          </a:prstGeom>
          <a:ln w="50760">
            <a:solidFill>
              <a:srgbClr val="0070c0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195" name="Straight Arrow Connector 38"/>
          <p:cNvCxnSpPr/>
          <p:nvPr/>
        </p:nvCxnSpPr>
        <p:spPr>
          <a:xfrm>
            <a:off x="7163280" y="4648320"/>
            <a:ext cx="1080" cy="457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6" name="TextBox 39"/>
          <p:cNvSpPr/>
          <p:nvPr/>
        </p:nvSpPr>
        <p:spPr>
          <a:xfrm>
            <a:off x="4087800" y="517860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cl Distributed Object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1295280" y="1371600"/>
            <a:ext cx="243864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5105520" y="1371600"/>
            <a:ext cx="243828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D4BC7A-5DA1-4519-AF7C-9DFD82153F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19"/>
          <p:cNvSpPr/>
          <p:nvPr/>
        </p:nvSpPr>
        <p:spPr>
          <a:xfrm>
            <a:off x="4006800" y="327672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1752480" y="1981080"/>
            <a:ext cx="1524240" cy="76212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AutoShape 18"/>
          <p:cNvSpPr/>
          <p:nvPr/>
        </p:nvSpPr>
        <p:spPr>
          <a:xfrm>
            <a:off x="1752480" y="32767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5562720" y="327672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rg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05" name="Straight Arrow Connector 23"/>
          <p:cNvCxnSpPr>
            <a:stCxn id="202" idx="2"/>
            <a:endCxn id="203" idx="0"/>
          </p:cNvCxnSpPr>
          <p:nvPr/>
        </p:nvCxnSpPr>
        <p:spPr>
          <a:xfrm flipH="1">
            <a:off x="2512800" y="2744640"/>
            <a:ext cx="3600" cy="5342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Straight Arrow Connector 34"/>
          <p:cNvCxnSpPr/>
          <p:nvPr/>
        </p:nvCxnSpPr>
        <p:spPr>
          <a:xfrm>
            <a:off x="3276720" y="3648240"/>
            <a:ext cx="2286720" cy="216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207" name="Straight Arrow Connector 21"/>
          <p:cNvCxnSpPr/>
          <p:nvPr/>
        </p:nvCxnSpPr>
        <p:spPr>
          <a:xfrm>
            <a:off x="3276720" y="2742840"/>
            <a:ext cx="2286720" cy="68652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sp>
        <p:nvSpPr>
          <p:cNvPr id="208" name="AutoShape 6"/>
          <p:cNvSpPr/>
          <p:nvPr/>
        </p:nvSpPr>
        <p:spPr>
          <a:xfrm>
            <a:off x="5562720" y="198288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914400" y="4724280"/>
            <a:ext cx="7543800" cy="16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Remote” class manages infrastructur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arget object created on serv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 used to generate local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Local methods and procedures replaced with remote method call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perations on local object transparently executed on target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DL compi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lient and server objects created at runtime from single Itcl clas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language on both e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OR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Network communication managed by “comm” packag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essage dispatching managed by Tcl interpret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vent loop managed by Tcl event loop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par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tcl class does not need to be modified to run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ther than startup code, client app is not aware that local object is running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6485C-F589-41F0-9E56-F9E774E189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8:39:31Z</dcterms:created>
  <dc:creator>Timothy L. Tomkinson</dc:creator>
  <dc:description/>
  <dc:language>en-US</dc:language>
  <cp:lastModifiedBy>fox</cp:lastModifiedBy>
  <dcterms:modified xsi:type="dcterms:W3CDTF">2008-10-16T17:24:36Z</dcterms:modified>
  <cp:revision>906</cp:revision>
  <dc:subject/>
  <dc:title>Remote Control of Test Equipment Using Distributed Objects</dc:title>
</cp:coreProperties>
</file>