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D5BC-4293-4048-9CD2-AB0529049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1A62-5F70-45C7-B043-2C12E2322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37F8-6915-41F8-AEF4-36B676E31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46D9-2E78-40F2-9BEB-FBC4C24B5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C3BD9-3E41-4FE6-9302-B56209257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10659-B8A6-4AD4-8B8F-EB478C95A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B04E2-1A31-49F3-AF14-FE09EECF3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D98E1-AE6A-4155-A96B-77E18DEC9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7A51A-CCC1-4F40-BC5F-A578A0798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DAA0F-BAE3-4757-9C8B-1001BF8D8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C5690-280A-49F4-B3D4-5B99793CF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B303-C36D-4837-91E6-0118A7994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4953D-5358-45DD-A7E8-37700966A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96E52-398A-4177-8006-745D8E5D0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803A3-2F8D-44AB-811B-F08F86317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74E96-51ED-44A6-89FC-BEF12D299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85F49-B683-499A-B42A-0E721B68E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4F64-18FC-4F20-B156-03FC4A6A6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55C2-58C7-4830-8841-0B7B3031F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E057-8CFD-4EC3-8D00-6269B95EE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763C-C9CE-4979-8D36-38D283DBA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E034-5CD6-40B7-9022-1573D372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7E49-3CE6-46FC-98C6-3790BDBA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50C5-EE42-4E60-A157-959453A7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79E7D-E6FA-452C-8C8F-D4D859C7AFCF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2BFA1-74A7-4026-9CD3-A049A14AADB1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600"/>
            <a:ext cx="82263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Pulling Out All the Stop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pplication of Tcl user extensions in a high performance multi-threaded electronic design applic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by Phil Brook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267080" y="1599840"/>
            <a:ext cx="3735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Byte Code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3  perim_co(S,G)  perim_in(S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2  temp3  perim_co(D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1  temp2  perim_in(D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w  0.5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DIV   l  area(G)  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NE    bends(G)  0 [31] [70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GT    w  l [37] [55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2  0.5  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1  temp2  l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UB   w  w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GOTO [70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2  0.5  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1  temp2  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UB   l  l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HALT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8040" y="1751040"/>
            <a:ext cx="373536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Variable Name</a:t>
            </a:r>
            <a:r>
              <a:rPr b="1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Value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3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co(S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4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in(S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6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co(D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4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in(D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6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rea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1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567240" y="3314880"/>
            <a:ext cx="1895400" cy="1347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254320" y="3789360"/>
            <a:ext cx="2568600" cy="885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8320" y="2286000"/>
            <a:ext cx="958680" cy="2101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50040" y="4205160"/>
            <a:ext cx="536400" cy="455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44600" y="3808440"/>
            <a:ext cx="0" cy="8413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55760" y="3794040"/>
            <a:ext cx="13129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3569760" y="3322800"/>
            <a:ext cx="3240" cy="4744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43160" y="4665600"/>
            <a:ext cx="37321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3325680"/>
            <a:ext cx="10591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648320" y="2303640"/>
            <a:ext cx="0" cy="10220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648320" y="2297160"/>
            <a:ext cx="9525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600880" y="2297160"/>
            <a:ext cx="0" cy="18968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275000" y="2708280"/>
            <a:ext cx="1622520" cy="23652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09880" y="3013200"/>
            <a:ext cx="235080" cy="196668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841480" y="3435480"/>
            <a:ext cx="235080" cy="153972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313000" y="4167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1,P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59080" y="4167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2,P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944960" y="3986280"/>
            <a:ext cx="56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4,P4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853160" y="2430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3,P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809800" y="5132520"/>
            <a:ext cx="3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773520" y="5586480"/>
            <a:ext cx="34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464160" y="2687760"/>
            <a:ext cx="3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840040" y="5032440"/>
            <a:ext cx="0" cy="376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73320" y="5032440"/>
            <a:ext cx="1800" cy="371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840040" y="513396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816360" y="560376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345360" y="26971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54720" y="29275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6443640" y="2700360"/>
            <a:ext cx="0" cy="21744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4154400" y="3338640"/>
            <a:ext cx="0" cy="131256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2766960" y="3798720"/>
            <a:ext cx="0" cy="8524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656240" y="3051000"/>
            <a:ext cx="93492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541600" y="395280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091040" y="389412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935600" y="305100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2398680" y="3962520"/>
            <a:ext cx="167400" cy="185400"/>
            <a:chOff x="2398680" y="3962520"/>
            <a:chExt cx="167400" cy="185400"/>
          </a:xfrm>
        </p:grpSpPr>
        <p:sp>
          <p:nvSpPr>
            <p:cNvPr id="271" name=""/>
            <p:cNvSpPr/>
            <p:nvPr/>
          </p:nvSpPr>
          <p:spPr>
            <a:xfrm>
              <a:off x="2398680" y="396252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2404080" y="396900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398680" y="396792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3452760" y="3922560"/>
            <a:ext cx="167400" cy="185400"/>
            <a:chOff x="3452760" y="3922560"/>
            <a:chExt cx="167400" cy="185400"/>
          </a:xfrm>
        </p:grpSpPr>
        <p:sp>
          <p:nvSpPr>
            <p:cNvPr id="275" name=""/>
            <p:cNvSpPr/>
            <p:nvPr/>
          </p:nvSpPr>
          <p:spPr>
            <a:xfrm>
              <a:off x="3452760" y="392256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3458160" y="392904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52760" y="392796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2873520" y="4761000"/>
            <a:ext cx="167760" cy="185400"/>
            <a:chOff x="2873520" y="4761000"/>
            <a:chExt cx="167760" cy="185400"/>
          </a:xfrm>
        </p:grpSpPr>
        <p:sp>
          <p:nvSpPr>
            <p:cNvPr id="279" name=""/>
            <p:cNvSpPr/>
            <p:nvPr/>
          </p:nvSpPr>
          <p:spPr>
            <a:xfrm>
              <a:off x="2873520" y="4761000"/>
              <a:ext cx="16524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2879280" y="4767480"/>
              <a:ext cx="15912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874240" y="4766400"/>
              <a:ext cx="16704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4929120" y="3571920"/>
            <a:ext cx="167400" cy="185400"/>
            <a:chOff x="4929120" y="3571920"/>
            <a:chExt cx="167400" cy="185400"/>
          </a:xfrm>
        </p:grpSpPr>
        <p:sp>
          <p:nvSpPr>
            <p:cNvPr id="283" name=""/>
            <p:cNvSpPr/>
            <p:nvPr/>
          </p:nvSpPr>
          <p:spPr>
            <a:xfrm>
              <a:off x="4929120" y="357192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4934520" y="357840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929120" y="357732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3848040" y="4761000"/>
            <a:ext cx="167400" cy="185400"/>
            <a:chOff x="3848040" y="4761000"/>
            <a:chExt cx="167400" cy="185400"/>
          </a:xfrm>
        </p:grpSpPr>
        <p:sp>
          <p:nvSpPr>
            <p:cNvPr id="287" name=""/>
            <p:cNvSpPr/>
            <p:nvPr/>
          </p:nvSpPr>
          <p:spPr>
            <a:xfrm>
              <a:off x="3848040" y="476100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3853440" y="476748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848040" y="476640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335480" y="2733840"/>
            <a:ext cx="167760" cy="185040"/>
            <a:chOff x="4335480" y="2733840"/>
            <a:chExt cx="167760" cy="185040"/>
          </a:xfrm>
        </p:grpSpPr>
        <p:sp>
          <p:nvSpPr>
            <p:cNvPr id="291" name=""/>
            <p:cNvSpPr/>
            <p:nvPr/>
          </p:nvSpPr>
          <p:spPr>
            <a:xfrm>
              <a:off x="4335480" y="2733840"/>
              <a:ext cx="165240" cy="1796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4341240" y="2740320"/>
              <a:ext cx="159120" cy="1731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336200" y="2739240"/>
              <a:ext cx="167040" cy="17964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5364000" y="2398680"/>
            <a:ext cx="167400" cy="185400"/>
            <a:chOff x="5364000" y="2398680"/>
            <a:chExt cx="167400" cy="185400"/>
          </a:xfrm>
        </p:grpSpPr>
        <p:sp>
          <p:nvSpPr>
            <p:cNvPr id="295" name=""/>
            <p:cNvSpPr/>
            <p:nvPr/>
          </p:nvSpPr>
          <p:spPr>
            <a:xfrm>
              <a:off x="5364000" y="239868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5369400" y="240516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364000" y="240408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2252520" y="4954680"/>
            <a:ext cx="0" cy="839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254320" y="5127480"/>
            <a:ext cx="5842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089160" y="5133960"/>
            <a:ext cx="2463840" cy="648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471920" y="504180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2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386080" y="51102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68360" y="5600880"/>
            <a:ext cx="156060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14920" y="5459400"/>
            <a:ext cx="1440" cy="291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051440" y="5457960"/>
            <a:ext cx="1440" cy="291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067280" y="5516640"/>
            <a:ext cx="152064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587920" y="4878360"/>
            <a:ext cx="0" cy="839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851200" y="55818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3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772160" y="540396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4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6450120" y="2300040"/>
            <a:ext cx="0" cy="39852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775480" y="2308320"/>
            <a:ext cx="7966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6450120" y="2916000"/>
            <a:ext cx="0" cy="173988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386400" y="238932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5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402240" y="367524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589200" y="3179880"/>
            <a:ext cx="228600" cy="144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3580920" y="3067200"/>
            <a:ext cx="1800" cy="164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502080" y="28782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3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4521240" y="3327120"/>
            <a:ext cx="0" cy="46044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456080" y="378288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521240" y="37749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525920" y="3903840"/>
            <a:ext cx="44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97480" y="3395520"/>
            <a:ext cx="51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335640" y="46465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602320" y="4202280"/>
            <a:ext cx="3873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989680" y="4208400"/>
            <a:ext cx="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456080" y="422100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4521240" y="42321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25920" y="4351320"/>
            <a:ext cx="52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3244680" y="37749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170160" y="422100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087720" y="3871800"/>
            <a:ext cx="51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3244680" y="422280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173400" y="4338720"/>
            <a:ext cx="51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089160" y="5324400"/>
            <a:ext cx="28828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969160" y="4875120"/>
            <a:ext cx="6120" cy="843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249800" y="521352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2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064040" y="5681520"/>
            <a:ext cx="191772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24440" y="555624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4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133720" y="1523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nclosure Function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mplex measur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 simple number represent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ummation capability requir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, SEFF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S,G) +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erim_in(S,G) + perim_co(D,G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D,G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G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G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- 0.5 * bends(G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- 0.5 * bends(G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 = ENC_PER (PGATE, DIFF, SD, 25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FFA = W /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UM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(S::W / (S::A + 0.5*L) ) - 0.5*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um functionality satisfied specific requir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on a more general solution was need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in/max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rbitrary calculations on array elemen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more complex measurement arra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ulti Finger Enclosure measuremen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cripting Language Requiremen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5400" y="1598400"/>
            <a:ext cx="8226360" cy="47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scribe data collection prior to execu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ilt-in language data retrieval function configures data collection algorithm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verage existing Built-in script eng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ustomers have extensive existing usa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ilt-in engine has 31 data collection routin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et data collected to the scri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et calculated results bac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verall Performance can’t slow down too muc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y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alibre already has Tcl interfaces inside our geometric manipulation langu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dd a function interface to the Built-in language – TVF_NUMERIC_FUNCTION 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(TVF_NUM_FUN for short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ows calling a Tcl Function from within the Built-in langu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5400" y="1371600"/>
            <a:ext cx="8226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, SEFF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S,G) +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erim_in(S,G) + perim_co(D,G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D,G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G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G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- 0.5 * bends(G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- 0.5 * bends(G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 = ENC_PER (PGATE, DIFF, SD, 25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FFA = TVF_NUM_FUN (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"calc_eff_a"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"device_func ", S, W,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VF FUNCTION device_func [/*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c calc_eff_a { enc W L }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... tcl code ..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*/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alibre Design Verificatio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tegrated Circuit Desig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427720" y="1295280"/>
            <a:ext cx="3716280" cy="48769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457200" y="2895480"/>
            <a:ext cx="822636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ometric Analysis Too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Requirements Check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scribe data collection before script run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xisting built-in script engine still provides the data collection function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everage existing script engine and customer scrip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Add Tcl calls to Existing built-in script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et data collected to Tc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unction call argument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et data calculations back to Calibr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Return values of Tcl functions calle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181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verall Performance go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Performance Testing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est Circuits: Emphasize scripting language performance (not a real world test cas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500,000 devices that run through the calculation scrip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3 Builtin-&gt;Tcl calls for each device (1.5 million total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10 Tcl-&gt;Calibre object callbacks (5 million total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alistic Device Calcu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artitions into 18 equal partitions for Multi-Threaded execu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an be expressed as Tcl function or Built-In SUM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at call interface to choose: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Ex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ObjEx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Objv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579096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94360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94360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se of Tcl_EvalObjEx didn’t differ significantly from Tcl_EvalObjv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rgument Handl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t up as much as possible before execu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ata passed through objects (Tcl_CreateObjCommand) to avoid construction of argument object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Getting Back to C++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ata is passed back through a Tcl_DoubleObj set as the “result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cl handles the result objects efficientl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ware the use of expr without {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hanging expr { ... } to expr ..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duced performance by 300%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nsider object interfaces that do the bookkeeping operations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t slice_count [ $enc slice_count 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or { set i 0 } { $i&lt;$slice_count } { incr i }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slice specific code here uses index $i to access da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from the $enc command object by passing it in as an argumen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ayout vs. Schematic (LVS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chematic – logical design of a circu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ayout – physical design of a circu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VS makes sure Layout and Schematic designs describe the same circuit by comparing th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onsider this interface where the $enc object performs index calcu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et i [ $enc first_slice ]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while { $i &gt; 0 }  {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# slice specific code here index is implicit $enc will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# access data from the current array slice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et i [ $enc next_slice ]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r, if you want to get fancy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$rtval = $enc eval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some sort of code that executes once for each slic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594360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hread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ata is partitioned for parallel execu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ach thread recognizes devices independentl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ach thread runs its own copy of the built-in language engin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ow do threads perform with Tcl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tter to use MT Tcl or Single Threaded Tcl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Thread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791320" cy="43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Final Performance Number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al chips showed no increase in required CPU time for Device Recogni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vice Recogni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vice Recognition allows the user to turn geometric shapes from the layout into logical device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971800" y="3352680"/>
            <a:ext cx="3124080" cy="23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959120" y="0"/>
            <a:ext cx="522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Simp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High Performanc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te compiled interpreted user progra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gram configures data collection before execution star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limited capabiliti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o loops, no alloc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just data collection, arithmetic, and conditional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ta and temporary variables are pre-allocat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te code runs for each device that is recogniz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792468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 S, G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 S, G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co( D, G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 D, G 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 G 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 G 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– 0.5 * bends( G 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– 0.5 * bends( G 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15:11:59Z</dcterms:created>
  <dc:creator>Phil Brooks</dc:creator>
  <dc:description/>
  <dc:language>en-US</dc:language>
  <cp:lastModifiedBy>Phil Brooks</cp:lastModifiedBy>
  <dcterms:modified xsi:type="dcterms:W3CDTF">2005-10-27T00:10:55Z</dcterms:modified>
  <cp:revision>4</cp:revision>
  <dc:subject/>
  <dc:title>Pulling Out All the Stops</dc:title>
</cp:coreProperties>
</file>