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388584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7"/>
          </p:nvPr>
        </p:nvSpPr>
        <p:spPr>
          <a:xfrm>
            <a:off x="-36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8"/>
          </p:nvPr>
        </p:nvSpPr>
        <p:spPr>
          <a:xfrm>
            <a:off x="388584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D84B9-CBA0-4BF4-B225-ED4E6A4DF04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Img"/>
          </p:nvPr>
        </p:nvSpPr>
        <p:spPr>
          <a:xfrm>
            <a:off x="111240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note: intra-document refer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X = \label\r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 output: Autogenerated TOC of se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ections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seen before – Je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doing work based on customer inter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 this work contracted by Cisco for their routers, embedded tc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ual markup =&gt; Comes in at the end, in the output, through the formatter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4435-B253-4527-9838-099F29B38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6D5F-8FF9-435C-8A5F-8686D1AA0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C008-8492-4958-B1F0-C26E4681D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93FA-80F6-49F6-A7A1-68A8C1862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D2055B-B274-48C7-A690-21D48D2638F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D29344-CD5B-4011-A43C-86ACB50F0C6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5A090F-7610-4DEF-9AD5-CD4FC845988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54D33C-EDBF-4364-B8FA-A6150CF3D88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1A94F2-76FB-4D58-9C22-83349C77370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B4D3D2-245A-41A9-B6CC-A44BA700531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920995-05A7-4435-A0B9-0CA3295637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F53D-3915-4C32-B778-661512254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C483D3-CF7A-422F-B3F1-73E8005968D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6B2E7E-CD03-483A-8473-F26197FC300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4F422F-7D1A-448A-BDE2-F45217D78A4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A7EE06-06E0-4FF5-8FB7-F2D13727B7A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F0148E-F7F7-4C17-9306-991EC60DA5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81B2-6891-4D7E-BE9B-61BD82399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2458-77D2-490B-B045-262E925F7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D988-4087-4C73-A02B-CBC8E7484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EE6E-6892-4CEE-B8BA-913C727BF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9FA2-BBDD-4EFF-9D80-479D73D1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09D5-4084-4CB0-8417-4FC6E297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3AD9-D440-4857-9C3B-20594B8A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© ActiveState Corporation 2003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4BDD3-B621-41AA-9BC3-9F0A08E400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ftr" idx="4"/>
          </p:nvPr>
        </p:nvSpPr>
        <p:spPr>
          <a:xfrm>
            <a:off x="3152520" y="6273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EC41A-4ABE-4D26-830E-9DC098C2DA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80000" y="5638680"/>
            <a:ext cx="183960" cy="4572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mini.net/sdarchive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cTo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772400" cy="302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slave interpr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syntax che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ting eng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d functionality means easier maintenance of the 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 against bugs in format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ainst malicious intent t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C / Index Autogener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l: DocTools Processor (dt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cllib, TclApps, Starkit available at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mini.net/sdarchive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dflow_x2" descr=""/>
          <p:cNvPicPr/>
          <p:nvPr/>
        </p:nvPicPr>
        <p:blipFill>
          <a:blip r:embed="rId2"/>
          <a:stretch/>
        </p:blipFill>
        <p:spPr>
          <a:xfrm>
            <a:off x="685800" y="1219320"/>
            <a:ext cx="7620120" cy="333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TOC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86400" cy="462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791320" cy="462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true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hing for the text bas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HTML only through regular hyperlink &lt;a&gt;, not as &lt;img&gt;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a true document managemen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include facility for text b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 variables for paramete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management fac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bolic names, formatter selects actual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 language with graphics commands (vector drawin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utput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P, DocBook, ReST, PDF, doctools (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k Text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doctools as intermediate format for other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ion from existing doc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erate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+ Documentation, extract the latter with a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Doc, z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ual reports from code brow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Navig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William Duquette, for “Expan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Joe English, for advice and hel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305000"/>
            <a:ext cx="77724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also provides flexible email management software for enterpr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upports most UNIX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Extensible in Pe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pam and virus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Gateway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C’s and Ind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ations and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formats in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roff, HTML, Plain Text, XML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-BLAS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atest attempt at un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Manpage Markup Language (XML bas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XML is considered heavy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ur Solu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Tools  = Yet more format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pages, Table of Contents, Ind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ce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ptual:        LaTeX (Semantic marku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: Exp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Forge: Tcllib pro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(BSD) lic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: SHA1 Manp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63904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: Table of Cont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378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I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617920" y="1447920"/>
            <a:ext cx="386388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defined output forma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(Metada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an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MML   - Tcl Manpage Markup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ki     - Text format, using semantic mark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r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rs are free to define more formats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3-07-16T20:24:18Z</dcterms:modified>
  <cp:revision>444</cp:revision>
  <dc:subject/>
  <dc:title>8.4 Tcl Overview</dc:title>
</cp:coreProperties>
</file>