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29253"/>
        <c:axId val="78480106"/>
      </c:barChart>
      <c:catAx>
        <c:axId val="61129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80106"/>
        <c:crosses val="autoZero"/>
        <c:auto val="1"/>
        <c:lblAlgn val="ctr"/>
        <c:lblOffset val="100"/>
        <c:noMultiLvlLbl val="0"/>
      </c:catAx>
      <c:valAx>
        <c:axId val="78480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29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02B-1F64-4E79-9FB5-0245EC53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BAB-7DA1-4F15-AC3C-18D5584C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5E7-BA85-46CE-844B-C5F0B051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CBD-FDB7-4090-9A04-C9849269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62B-D594-44B2-B96D-ECD3AB5A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FD6-3CD7-4535-B75A-6169DED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19F-6AC7-4056-8A33-C48CE12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9F4-17EE-4750-86BA-DE85775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BFA-AD69-481F-9017-6953EB4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02A-D036-4D24-A531-BB9BC69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BEA-880A-4E95-80EC-F9079A4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F5C-A6AD-4AFA-9B5F-576D8422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5B6BA-09B7-43BD-A304-E73A627C16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